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491-230E-4634-9EE6-77FA5302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8CC-DD56-433A-A42A-198DC81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DFC-039A-4120-B91D-8269D7F5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1EA-39B5-4D27-8530-ADC1ECDB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76A-8D88-49F1-ABFC-DB2CD181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155-7974-4FDC-8912-606F2A24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4B5-5F1E-47E9-85D1-3B210E5D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85F-41D5-4294-9E72-9A441490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17C-BF38-4978-8AC7-3FCCF449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6FD-7D35-4A9D-B75E-C82E6FC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F36-9653-4F9F-9B5D-7F9D8B9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757-C5B6-4213-A1D2-85A2EFA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163-2C9A-40BA-82A8-3CB66B78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rkin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253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pril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P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762120"/>
            <a:ext cx="53337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ol-Aid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5820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9436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867280"/>
            <a:ext cx="556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5/7/2010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erkins"/>
          <p:cNvPicPr/>
          <p:nvPr/>
        </p:nvPicPr>
        <p:blipFill>
          <a:blip r:embed="rId1"/>
          <a:stretch/>
        </p:blipFill>
        <p:spPr>
          <a:xfrm>
            <a:off x="152280" y="571680"/>
            <a:ext cx="8458200" cy="42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30481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952880"/>
            <a:ext cx="7010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ol-A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867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has many different flavors without Kool-Aid juice would not be good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One company sold a item called “Fruit Smac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n 1927,Perkins thought it was easier to sell it in powder then liqu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t was easier because then they wouldn’t have to ship so much liqu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So the powder was packaged into packages and shi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Also before that “Kool-Aid” was spelled “Kool-Ade” but later on he put it as “Kool-Ai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3720" y="38088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vention: Kool-Aid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When Edwin was young he loved making conco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At age 25 Perkins opened up a business called “Perkins Products C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He did that so he can sell the numorous items h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company sold perfumes and other advertis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n 1918, Perkins got married to the love of his life “kitt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304920"/>
            <a:ext cx="5181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ventor: Edwin Perkins</a:t>
            </a:r>
            <a:endParaRPr b="0" lang="en-US" sz="1800" spc="1" strike="noStrike">
              <a:ln w="12600">
                <a:solidFill>
                  <a:srgbClr val="00ccff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5Z</dcterms:created>
  <dc:creator>install</dc:creator>
  <dc:description/>
  <dc:language>en-US</dc:language>
  <cp:lastModifiedBy>install</cp:lastModifiedBy>
  <dcterms:modified xsi:type="dcterms:W3CDTF">2010-05-12T17:35:13Z</dcterms:modified>
  <cp:revision>10</cp:revision>
  <dc:subject/>
  <dc:title>Slide 1</dc:title>
</cp:coreProperties>
</file>